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F1B91-08CC-43E1-8D65-73F43D44D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7"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1D5B7-9C4D-4F0A-A30F-02443F0AB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F3EBF-FCC4-438F-B472-345B79B17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5"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C7FB4-DBDD-466F-90F3-DA33A4CE8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81666-C856-48FE-AE8A-D8E1788AB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4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D355F-9C73-4AE6-A5EE-3B1EA8580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48"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C78F3-11B8-4AAD-939A-F2B55A5FA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0"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50979-28FA-40AC-A881-8CDBF92FC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3F6E0-5800-43B2-B054-85CB1CCDA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30932-5447-4AEF-9189-DD0DC2A93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D834C-A016-4675-925C-DAC19DC1C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A34D4-2EBE-49D5-9CE1-08F8BF513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9"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233B4-CB30-4D16-BCEA-88F98EF5E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3"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09FEA-C0E8-4BCE-931B-E31F143B2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7"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118D2-CD29-444B-B2E6-962AAE3BA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CEEC9-A9FA-40E4-AD83-911242195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A2556-0679-4455-9089-CC4E1ACBC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A44488-7ADD-4958-8A81-063D8E2D8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9637B-470A-416F-A5B9-ABCF229D1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91"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F2414-C7A6-4D3F-BC62-DDB27EC14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93"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5FA68C-1B94-4149-9CBF-7D54D3053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BB8C3-D45B-43A4-9CF2-C5873EB40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1196D-58EE-47D9-9E80-A1B6BBF5F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BB459-09C9-4F36-8509-702715A8D4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9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BCB21-7532-4072-BE57-136BF8E0A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A8417-2D0A-4AC0-8A6E-50F21C96B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6"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4EEA7-A56B-4A79-AF32-58CF42191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10"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564956-B26B-4253-A42C-BBEDCB0BE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13"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7163D4-D985-49FA-A629-FBED66B066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18"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9B3F70-17A3-4BDB-9F49-29C2E87DB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4E9C5B-ECE2-4BF5-9D9C-706F177BA1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32"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A823B-9524-4921-9FD5-16B2B2BF3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34"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72153E-67ED-41D6-BA34-FE7825619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4075-43ED-44DA-9934-6669A0973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36"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3E013-E45B-4731-86FE-E7351DD52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9AC4B-5331-4F5C-8C35-5E45B8F4DA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A96DA-9353-4F4D-BF48-0036789E0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41"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412B5-654A-499C-B3DC-CA4A30DFEE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4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DF11D-BD23-46EC-BB3E-B8D7504B4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49"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40586-4C08-48E8-927E-62C264131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53"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201084-2550-48DD-987B-95FE781AA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56"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D47D26-6D45-4886-BED4-0E77CA76D6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61"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798C3-BA86-4CAD-BE19-46A1E81777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76303-A9A3-45DB-8063-D438E748F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2E78-DA03-421A-B6EB-02B2B701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231C-DDC8-4968-A511-00EBDF8B0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9"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C323-1C5E-4CCD-B4C1-66F850CB5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3"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BD829-57EE-410C-82E7-9F761215B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AE5C-6487-44D4-98FE-8CE228B5A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4DF2-FB57-4290-A7EE-7782DA7D6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AEE6-252F-4CE8-BED9-AD113217F06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6"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2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26" name="PlaceHolder 3"/>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2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976D-23E8-4080-88A5-BF6DE9287D1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2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rystal Dixon</a:t>
            </a:r>
            <a:endParaRPr b="0" lang="en-US" sz="5000" spc="-1" strike="noStrike">
              <a:solidFill>
                <a:srgbClr val="006633"/>
              </a:solidFill>
              <a:latin typeface="Garamond"/>
            </a:endParaRPr>
          </a:p>
        </p:txBody>
      </p:sp>
      <p:sp>
        <p:nvSpPr>
          <p:cNvPr id="16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f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ary School Princip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92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Arial"/>
              </a:rPr>
              <a:t>Vision Statement</a:t>
            </a:r>
            <a:endParaRPr b="0" lang="en-US" sz="4400" spc="-1" strike="noStrike">
              <a:solidFill>
                <a:srgbClr val="b7e7ff"/>
              </a:solidFill>
              <a:latin typeface="Arial"/>
            </a:endParaRPr>
          </a:p>
        </p:txBody>
      </p:sp>
      <p:sp>
        <p:nvSpPr>
          <p:cNvPr id="1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oal is to ensure that all children learn by teaching the “whole child”. I feel that my job goes beyond teaching students the academics, but it also encompasses teaching students basic survival and cooperation skills they will need to adapt to the new changes in the “real-wor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fessional Attributes</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dicated to providing consistent and fair relationships between school staff and par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dicated to being a “life-long learn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dicated to the implementation of more technology in the classroom and administrative setting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Attributes</a:t>
            </a:r>
            <a:endParaRPr b="0" lang="en-US" sz="4200" spc="-1" strike="noStrike">
              <a:solidFill>
                <a:srgbClr val="006633"/>
              </a:solidFill>
              <a:latin typeface="Garamond"/>
            </a:endParaRPr>
          </a:p>
        </p:txBody>
      </p:sp>
      <p:sp>
        <p:nvSpPr>
          <p:cNvPr id="174" name=""/>
          <p:cNvSpPr/>
          <p:nvPr/>
        </p:nvSpPr>
        <p:spPr>
          <a:xfrm>
            <a:off x="1373400" y="22096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Motivated</a:t>
            </a:r>
            <a:endParaRPr b="0" lang="en-US" sz="1800" spc="-1" strike="noStrike">
              <a:solidFill>
                <a:srgbClr val="ffffff"/>
              </a:solidFill>
              <a:latin typeface="Arial"/>
            </a:endParaRPr>
          </a:p>
        </p:txBody>
      </p:sp>
      <p:sp>
        <p:nvSpPr>
          <p:cNvPr id="175" name=""/>
          <p:cNvSpPr/>
          <p:nvPr/>
        </p:nvSpPr>
        <p:spPr>
          <a:xfrm>
            <a:off x="4040640" y="373392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812f"/>
                </a:solidFill>
                <a:latin typeface="Arial"/>
              </a:rPr>
              <a:t>Passionate</a:t>
            </a:r>
            <a:endParaRPr b="0" lang="en-US" sz="1800" spc="-1" strike="noStrike">
              <a:solidFill>
                <a:srgbClr val="ffffff"/>
              </a:solidFill>
              <a:latin typeface="Arial"/>
            </a:endParaRPr>
          </a:p>
        </p:txBody>
      </p:sp>
      <p:sp>
        <p:nvSpPr>
          <p:cNvPr id="176" name=""/>
          <p:cNvSpPr/>
          <p:nvPr/>
        </p:nvSpPr>
        <p:spPr>
          <a:xfrm>
            <a:off x="6479640" y="51814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812f"/>
                </a:solidFill>
                <a:latin typeface="Arial"/>
              </a:rPr>
              <a:t>Determined</a:t>
            </a:r>
            <a:endParaRPr b="0" lang="en-US" sz="1800" spc="-1" strike="noStrike">
              <a:solidFill>
                <a:srgbClr val="ffffff"/>
              </a:solidFill>
              <a:latin typeface="Arial"/>
            </a:endParaRPr>
          </a:p>
        </p:txBody>
      </p:sp>
      <p:sp>
        <p:nvSpPr>
          <p:cNvPr id="177" name=""/>
          <p:cNvSpPr/>
          <p:nvPr/>
        </p:nvSpPr>
        <p:spPr>
          <a:xfrm>
            <a:off x="1450800" y="52578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fbf39"/>
                </a:solidFill>
                <a:latin typeface="Arial"/>
              </a:rPr>
              <a:t>Creative</a:t>
            </a:r>
            <a:endParaRPr b="0" lang="en-US" sz="1800" spc="-1" strike="noStrike">
              <a:solidFill>
                <a:srgbClr val="ffffff"/>
              </a:solidFill>
              <a:latin typeface="Arial"/>
            </a:endParaRPr>
          </a:p>
        </p:txBody>
      </p:sp>
      <p:sp>
        <p:nvSpPr>
          <p:cNvPr id="178" name=""/>
          <p:cNvSpPr/>
          <p:nvPr/>
        </p:nvSpPr>
        <p:spPr>
          <a:xfrm>
            <a:off x="6172200" y="2133720"/>
            <a:ext cx="16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fbf39"/>
                </a:solidFill>
                <a:latin typeface="Arial"/>
              </a:rPr>
              <a:t>Trustworthy</a:t>
            </a:r>
            <a:endParaRPr b="0" lang="en-US" sz="1800" spc="-1" strike="noStrike">
              <a:solidFill>
                <a:srgbClr val="ffffff"/>
              </a:solidFill>
              <a:latin typeface="Arial"/>
            </a:endParaRPr>
          </a:p>
        </p:txBody>
      </p:sp>
      <p:sp>
        <p:nvSpPr>
          <p:cNvPr id="179" name=""/>
          <p:cNvSpPr/>
          <p:nvPr/>
        </p:nvSpPr>
        <p:spPr>
          <a:xfrm>
            <a:off x="6019920" y="35812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ai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ow could I help Henry County Public Schools?</a:t>
            </a:r>
            <a:endParaRPr b="0" lang="en-US" sz="3800" spc="-1" strike="noStrike">
              <a:solidFill>
                <a:srgbClr val="006633"/>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 with the full implementation of differentiated instruction (DI) and launch DI further by ensuring that DI is used in daily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the School Improvement Plan (SIP) to maintain and/or exceed the Standards of Learning requirements and Adequate Yearly Progres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a school budget that maximizes allotted monies without decreasing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dedicated to the vision of the school district while respecting and involving all stakeholde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pectations of the Elementary School Principal position</a:t>
            </a:r>
            <a:endParaRPr b="0" lang="en-US" sz="3800" spc="-1" strike="noStrike">
              <a:solidFill>
                <a:srgbClr val="006633"/>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to keep a balance between high expectations from the  faculty and positive morale for faculty.</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the daily school operation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vising faculty and staff</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ng a master schedule for faculty and stud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nd maintain a positive and professional relationship between parents, teachers, and stud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ze dat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 school budget that is conducive to maximizing instru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Thank you for considering me for Elementary School Principal</a:t>
            </a:r>
            <a:endParaRPr b="0" lang="en-US" sz="4600" spc="-1" strike="noStrike">
              <a:solidFill>
                <a:srgbClr val="006633"/>
              </a:solidFill>
              <a:latin typeface="Garamond"/>
            </a:endParaRPr>
          </a:p>
        </p:txBody>
      </p:sp>
      <p:sp>
        <p:nvSpPr>
          <p:cNvPr id="18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stal Dix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for Elementary School Princip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20:18:09Z</dcterms:created>
  <dc:creator>Teacher</dc:creator>
  <dc:description/>
  <dc:language>en-US</dc:language>
  <cp:lastModifiedBy>Teacher</cp:lastModifiedBy>
  <dcterms:modified xsi:type="dcterms:W3CDTF">2009-11-27T03:32:02Z</dcterms:modified>
  <cp:revision>10</cp:revision>
  <dc:subject/>
  <dc:title>Crystal Dixon</dc:title>
</cp:coreProperties>
</file>